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7AE-5124-4BE3-B37B-768EB2A7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318-F845-4A8E-9B68-7495B0F7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5DB-0399-4076-98DA-34421075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E4E-713F-4490-A749-256D212E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99F-758F-4166-B0D9-0A02B7C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FB8-91F8-4335-AA21-785294D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AED-67CB-4618-92AA-73BC085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B76-96DF-4021-98A4-1E69F1D8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CB0-3143-48B3-8701-FECD75F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518-F99C-4696-9A19-0635F70F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494-8452-4CA7-BDB4-BA8096C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46B-1CF0-4B7A-A8AD-257DA6F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1DC-A4AF-43D1-BCF4-42E190DC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765000"/>
            <a:ext cx="7993080" cy="4092840"/>
            <a:chOff x="395280" y="765000"/>
            <a:chExt cx="7993080" cy="4092840"/>
          </a:xfrm>
        </p:grpSpPr>
        <p:sp>
          <p:nvSpPr>
            <p:cNvPr id="42" name=""/>
            <p:cNvSpPr/>
            <p:nvPr/>
          </p:nvSpPr>
          <p:spPr>
            <a:xfrm>
              <a:off x="395280" y="1052640"/>
              <a:ext cx="79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0360" y="1773360"/>
              <a:ext cx="136692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08720" y="1773360"/>
              <a:ext cx="1008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48360" y="2492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" y="1773360"/>
              <a:ext cx="55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2492280"/>
              <a:ext cx="474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321300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5640" y="3213000"/>
              <a:ext cx="1152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5280" y="393372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2000" y="112536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tr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36000" y="148428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ssur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8360" y="1484280"/>
              <a:ext cx="53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é (brut ON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360" y="2205000"/>
              <a:ext cx="46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impos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292428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360" y="364500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41720" y="183528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ersonnel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8640" y="2746440"/>
              <a:ext cx="122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écom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8360" y="765000"/>
              <a:ext cx="777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eur (salaire coû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7640" y="26370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ON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213372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agnies d’assu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88000" y="17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0720" y="1773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80000" y="2781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2492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440" y="33400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Fi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909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6680" y="32148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8600" y="4359240"/>
              <a:ext cx="792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4724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00" y="4221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581360"/>
              <a:ext cx="41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é par l’intermédiaire de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-2943360" y="2771640"/>
            <a:ext cx="6459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941560" y="6822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9:31:02Z</dcterms:created>
  <dc:creator>Cools</dc:creator>
  <dc:description/>
  <dc:language>en-US</dc:language>
  <cp:lastModifiedBy>Cools</cp:lastModifiedBy>
  <dcterms:modified xsi:type="dcterms:W3CDTF">2004-10-13T13:03:43Z</dcterms:modified>
  <cp:revision>3</cp:revision>
  <dc:subject/>
  <dc:title>Diapositive 1</dc:title>
</cp:coreProperties>
</file>